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C177-1C2A-4AEC-88BC-6E5F6809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D816-767D-4407-B567-4564C32B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DDF3-8973-49C8-9E27-3AAF0B5A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257A-7988-49DD-8220-04797E32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1842-CB40-4F49-A9C3-FAF0CB7C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C912-51C7-47B1-BAA0-F7A15B74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FF11-2F4E-4867-B32B-4695F4E4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093E-5346-417A-B5C0-9FFA3818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C9F4-E4F1-4EFE-A07F-43856C2B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4903-2EA9-4B0B-BF37-FFB1838E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E5B5-1777-43C2-A984-8E4742DD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29AA-A621-4C07-97C5-88A85307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20D6-B11E-4F97-830B-A77A1E70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7896-740E-4C3D-9C5F-6E128CF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CC63-A3B5-4680-8498-E91F5CDF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FC6F-A78D-470F-B25A-5A4F5F84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E396-E6A7-4B25-B9E8-6A39B40D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37E7-3249-4159-A36A-C10CED4F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73E3-E29C-4AF8-98DB-CC34A972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F4D4-8136-48C0-B602-8BB9DF7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BEC3-62AB-4B31-8AC9-9574F365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D515-3029-4AA8-B96D-22204949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4892-7B09-4097-8414-37BEB9B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9325C-2125-4E74-9FC7-5A8D1390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959D-E60A-4961-A9C6-D0DACFD4B3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78AE-F3DC-4EA9-B4E7-C8FB405F2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80880"/>
            <a:ext cx="77724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veloping a Plan                     to Transition to Medicare                   Value-Based Purchasing for Physician &amp; Other Professional Services (PVB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5080" y="4216320"/>
            <a:ext cx="680868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Listening Session on Issues Pa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D31E-75AB-4A4F-A966-E3B5AEB47C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5:07Z</dcterms:modified>
  <cp:revision>4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7213038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